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578-C80B-4209-9D04-4650ADC7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930-3199-4294-89A7-F1694F58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061-0585-4821-BF8C-50D91528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223-80BA-490D-9395-C49F4AE5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D0E9-B25C-4F69-BBF8-6F5888EB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4D35-8AB3-49AA-BD22-39BEC0B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0855-29BA-41BF-AD97-442C30CB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0554-92B9-496A-BC5F-5D61C2C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CF3C-69F9-4994-A7A4-78967E22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B184-6370-4389-920A-8BB10279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808F-E48F-4719-A7E4-0C63A07A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5B5-2432-48D3-B048-60BD7A33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4EE-9244-4C0E-87C0-C4F9E692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A7FD-6CEF-44D0-93A8-773CCA1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45AF-C80C-458D-B348-CD050303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9AA0-E3D8-40E6-84CE-44570E40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A052-BC22-4638-A1E5-7FBD944C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98B-2C32-46A2-8E30-C28DD1BC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466-9250-4D3A-A7EB-1915CB7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1D0-5D03-4612-9676-5B75C77E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027-BFE7-4B54-B7AD-DD56BF6E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595-30E1-4DBB-8175-FAE0C419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A9D-E07F-4D93-9DFA-9E487BB6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736-4894-452F-9301-2C5D24D7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9893-2913-4955-BA89-CFF783964F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802D-21B8-414D-BC09-E6E7AAF869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at is 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ograms of Study?</a:t>
            </a:r>
            <a:br>
              <a:rPr sz="4400"/>
            </a:b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Missouri Family and Consumer Sciences</a:t>
            </a:r>
            <a:br>
              <a:rPr sz="3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05120" y="3048120"/>
            <a:ext cx="5715000" cy="327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914560" y="2514600"/>
            <a:ext cx="33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Teacher Leader Cadre I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10-Step Process To Implement Programs of Stud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mmitment and Cluster Cho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mplementation Te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undational Professional Develop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lignment of Course Competencies with Knowledge and Ski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ap Identification and Reme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ocal Validation and Credentia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Vertical Alignment and Transition Link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reate Transition Opportuniti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reate the Personal Plan of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nvironment of Continuous Improv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086600" y="1600200"/>
            <a:ext cx="1752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s of Study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tain BUY-IN with Implementation Team/Need &amp; Statist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fessional Development with ALL LEVELS should Increase: 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IGOR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ELEVANCE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rough Horizontal (Internal) Alignment, Match Academic Alignment Table with Career Cluster Knowledge &amp; Skills Standards for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Gap Identifica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nd Remed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are Results with Advisory Council/Link Programs between Educational Levels &amp; Compa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rough Vertical (External) Alignment, Articulate Courses to make sure performance elements are at a higher DOK level: 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IGOR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ELEVANCE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st students with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Personal Plan of Stud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nd Collect Data to Maintain Ongoing and Reflective Dialog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0120" y="53352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3:23:33Z</dcterms:created>
  <dc:creator>Administrator</dc:creator>
  <dc:description/>
  <dc:language>en-US</dc:language>
  <cp:lastModifiedBy>Administrator</cp:lastModifiedBy>
  <dcterms:modified xsi:type="dcterms:W3CDTF">2008-06-05T15:56:17Z</dcterms:modified>
  <cp:revision>11</cp:revision>
  <dc:subject/>
  <dc:title>What is a Program of Studies? Missouri Family and Consumer Sciences Teacher Leader Cadre II </dc:title>
</cp:coreProperties>
</file>